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7CF90-40DB-4404-AB6F-3301B15BE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B5C5F-AECE-4E02-81EE-6502BEBF3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65CCA-253D-4402-B3C2-222C91472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F27B4-8824-4359-8C0E-476F374BF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069DC-D004-4E3D-8DA4-8F71D3C3A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9F764-883C-4C70-AD0E-34D69A5CB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35B93-6694-467A-A8B3-175257CD5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0B7D0-123B-4BEC-868C-0D4AA9C8A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23FE3-02BD-4181-8B82-7D09E83C4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D714A-1BF1-4EE8-AC0E-96237957F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7CED7-56CE-41F8-A882-8B728DF88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EC54F-2916-46C5-A50C-B7EE205D3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565FB-DBB3-4C57-B37B-FE2960940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FC82D-8FFF-436A-A243-ABB1B93BC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73F1C-F5C1-4E1A-919E-325BFCEAA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C9400-2491-4E6C-A981-C756B63E2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B37CA-6345-4377-BEB2-734B23C3C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B999E-4DC2-44D2-9B06-5427C192B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38489-4BCE-4D82-8300-FDE6AB956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5545D-78B8-49F7-962D-5CC767114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6404E-5B4B-4FB6-8C4A-5536C11FA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EAAD5-AFBA-4891-9524-2FF2A1986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A7BCD-E815-44E9-9F7B-7E6BFA137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ACA34-35D5-4BEC-8CCD-4A942C42D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8F504-ACF6-449E-9966-528DB8295A6B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B01A9-5CFA-46FD-908F-70B98AF20507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Independent Reading 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is a “Just Right” book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3352680" y="4495680"/>
            <a:ext cx="1833840" cy="16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It shouldn’t be too easy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e likes dogs.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5762520" y="3549600"/>
            <a:ext cx="1851120" cy="20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It shouldn’t be too hard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quality of mercy is not strained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3998880" y="2517840"/>
            <a:ext cx="1146240" cy="182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Here is what you need to ask yourself.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3657600" y="2286000"/>
            <a:ext cx="190512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Is the book new to me?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ave I read this before or have I seen a movie about this book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Do I understand a lot of the book?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You should understand what you are reading and be able to follow the stor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Words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re there less than 5 words on a page you don’t know.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nfusing words&lt;5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010280" y="3886200"/>
            <a:ext cx="1521000" cy="17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hallenge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s it challenging sometimes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Questions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o far I understand…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One question I have is…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I don’t understand…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12T09:03:52Z</dcterms:created>
  <dc:creator>john.arunski</dc:creator>
  <dc:description/>
  <dc:language>en-US</dc:language>
  <cp:lastModifiedBy>john.arunski</cp:lastModifiedBy>
  <dcterms:modified xsi:type="dcterms:W3CDTF">2010-08-26T04:34:52Z</dcterms:modified>
  <cp:revision>3</cp:revision>
  <dc:subject/>
  <dc:title>Independent Reading </dc:title>
</cp:coreProperties>
</file>